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018-C447-463A-90C7-B1349862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ABA-CEAD-4DCC-8C93-DA9A774D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3BB-F75C-46DA-A703-D84EAAB9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BF34-5397-477B-BE61-0E502583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915C-0475-41D0-8D10-853A8DEB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F3E0-70ED-494C-B800-C75DDD42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971B-33D2-4355-9158-7F6C9EFB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C23-C423-48E1-8431-24C437C8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610-DE76-47E9-B12B-30F0C33D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6F84-9ADD-4809-86A5-92C8BDDB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111F-B418-4BE7-97A3-CB1A630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685-BFA4-4C6E-9E06-193A5EB3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40E0-E814-42DD-8C28-913244AA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29E-DF9F-43CB-A7EA-97062D6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6740-726D-4838-9639-25F94CA4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2DE6-D109-4D96-97B7-8D2D4DB9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C375-8CF4-4546-90F1-0141D321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4B8-C686-4319-8692-5E4D8B43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C7B-C405-4101-81E3-568A481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5B3B-9691-4289-BE5B-F1AF358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942-3FC9-4A99-8C4E-14CAEE7B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4E2-896B-47AC-B5D4-72953DAF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F03-14B4-446C-9384-75FDB6BC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AB4-B17D-48EC-ABF5-007759EA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26F2-1A12-498F-A746-2D546E4B29C5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1A97-E449-4447-8BEF-3A0607137802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800" spc="-1" strike="noStrike">
                <a:solidFill>
                  <a:srgbClr val="cccc66"/>
                </a:solidFill>
                <a:latin typeface="Arial"/>
              </a:rPr>
              <a:t>Bibliographie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Méthodes de Recherche Qualitative en Science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(Année académique 2006-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G.PIROTTE, Chargé de c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Biblio. MRQSS (2006-2007)</a:t>
            </a:r>
            <a:br>
              <a:rPr sz="3300"/>
            </a:b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G. Pirotte, chargé de cours</a:t>
            </a:r>
            <a:endParaRPr b="1" lang="en-US" sz="33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ARBORIO A.M. &amp; FOURNIER P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’enquête et ses méthodes – L’observation direct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A. Colin, 1999 (2</a:t>
            </a:r>
            <a:r>
              <a:rPr b="0" lang="fr-BE" sz="2400" spc="-1" strike="noStrike" baseline="30000">
                <a:solidFill>
                  <a:srgbClr val="ffffff"/>
                </a:solidFill>
                <a:latin typeface="Trebuchet MS"/>
              </a:rPr>
              <a:t>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 édition), col. « 128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BEAUD S. &amp; WEBER F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Guide de l’enquête de terrain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La Découverte,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BERTAUX D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es récits de vie. Perspective Ethnosociologiqu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Nathan, 1997. col. « 128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BERTAUX D., « L’approche biographique : sa validité méthodologiques, ses potentialités »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Cahiers Internationaux de Sociologi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1980, vol. LXIX, pp. 197-2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BERTHIER N., 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es techniques d'enquête - Méthode et exercices corrigés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A. Colin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Biblio. MRQSS (2006-2007)</a:t>
            </a:r>
            <a:br>
              <a:rPr sz="3300"/>
            </a:b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G. Pirotte, chargé de cours</a:t>
            </a:r>
            <a:endParaRPr b="1" lang="en-US" sz="33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BLANCHET A. &amp; GOTMAN A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’enquête et ses méthodes - L’entretien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A. Colin, 1992. col. « 128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COMBESSIE J.C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a méthode en sociologi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La Découverte, 200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DE KETELE J.M. &amp; ROEGIERS X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Méthodologie du recueil d’information. Fondements des méthodes d’observations, de questionnaires, d’interviews et d’études de documents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Bruxelles, DeBoeck, 3</a:t>
            </a:r>
            <a:r>
              <a:rPr b="0" lang="fr-BE" sz="2400" spc="-1" strike="noStrike" baseline="30000">
                <a:solidFill>
                  <a:srgbClr val="ffffff"/>
                </a:solidFill>
                <a:latin typeface="Trebuchet MS"/>
              </a:rPr>
              <a:t>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 édition, 199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DUCHESNE S. &amp; HAEGEL F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’enquête et ses méthodes. L’entretien collectif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Nathan Université, 2004, col. « 128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Biblio. MRQSS (2006-2007)</a:t>
            </a:r>
            <a:br>
              <a:rPr sz="3300"/>
            </a:br>
            <a:r>
              <a:rPr b="1" i="1" lang="fr-BE" sz="3300" spc="-1" strike="noStrike">
                <a:solidFill>
                  <a:srgbClr val="cccc66"/>
                </a:solidFill>
                <a:latin typeface="Arial"/>
              </a:rPr>
              <a:t>G. Pirotte, chargé de cours</a:t>
            </a:r>
            <a:endParaRPr b="1" lang="en-US" sz="33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KAUFMANN J.C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’entretien compréhensif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A. Colin, 1996, col. « 128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MENDRAS H. OBERTI M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Le sociologue et son terrain. Trente recherches exemplaires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A. Colin, 2000, col. « U 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MUCCHIELI A. (dir.)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Dictionnaire des méthodes qualitatives en sciences humaines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A. Colin, 2004 (2</a:t>
            </a:r>
            <a:r>
              <a:rPr b="0" lang="fr-BE" sz="2400" spc="-1" strike="noStrike" baseline="30000">
                <a:solidFill>
                  <a:srgbClr val="ffffff"/>
                </a:solidFill>
                <a:latin typeface="Trebuchet MS"/>
              </a:rPr>
              <a:t>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 édi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PENEFF J.,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rebuchet MS"/>
              </a:rPr>
              <a:t>La méthode biographique : de l'Ecole de Chicago à l'histoire orale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. Paris, Armand Colin, 199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QUIVY R. &amp; VAN CAMPENHOUDT L.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Manuel de recherche en sciences sociales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Paris, Dunod, 199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THOMPSON P., « Des récits de vie à l’analyse du changement social », </a:t>
            </a:r>
            <a:r>
              <a:rPr b="0" i="1" lang="fr-BE" sz="2400" spc="-1" strike="noStrike">
                <a:solidFill>
                  <a:srgbClr val="ffffff"/>
                </a:solidFill>
                <a:latin typeface="Trebuchet MS"/>
              </a:rPr>
              <a:t>Cahiers Internationaux de Sociologie</a:t>
            </a:r>
            <a:r>
              <a:rPr b="0" lang="fr-BE" sz="2400" spc="-1" strike="noStrike">
                <a:solidFill>
                  <a:srgbClr val="ffffff"/>
                </a:solidFill>
                <a:latin typeface="Trebuchet MS"/>
              </a:rPr>
              <a:t>, 1980, vol. LXIX, pp. 249-268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08:33:13Z</dcterms:created>
  <dc:creator>Pirotte Gauthier</dc:creator>
  <dc:description/>
  <dc:language>en-US</dc:language>
  <cp:lastModifiedBy>Pirotte Gauthier</cp:lastModifiedBy>
  <dcterms:modified xsi:type="dcterms:W3CDTF">2006-12-12T14:29:12Z</dcterms:modified>
  <cp:revision>3</cp:revision>
  <dc:subject/>
  <dc:title>Bibliographie</dc:title>
</cp:coreProperties>
</file>